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7A5-1E16-423F-9B0B-D47F127F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4C1-8533-417D-AA74-4C2B419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D66-12EC-42AF-8988-9A36C047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6CF-80D8-4884-A67B-710C8E63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77E-5637-4631-9057-E1B3E37A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829-2F6F-478D-B9E2-8168CBFE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6A6-7C1A-4641-A092-633F85E6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321-8420-4FFB-913E-ACFE0E5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F3A-E0A3-4103-BCC9-384465E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003-CDA2-4894-AAB2-47205F9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425-F897-4EF4-89DE-47809B8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46F-ABA4-4FD7-8591-6F9161F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E7168-4235-46A4-86DF-8ADE39D79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cces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Great Place to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2204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yal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termin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dica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eliev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lativ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la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ssocia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quiva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now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pula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famou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rk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swer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act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spond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turn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iv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v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k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ffort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sult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sponsibl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cces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o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weve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umbers 9 and 10 are the same word. Fill in the blank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pprais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if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ri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urnishing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viding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rranging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k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these questions with a part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of a person you consider to be successful. What makes you think they are successful? What, in your view, are the reasons for their suc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think are the obstacles to suc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ing your mind for success</a:t>
            </a:r>
            <a:br>
              <a:rPr sz="3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s://www.youtube.com/watch?v=MmfikLimeQ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uld you get up on the stage in front of nearly a thousand people? Write down a couple of reasons why or why n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appens to the man who gets up on stag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gives three reasons for someone not coming up on stage. What do you think they might b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ar – obstacles – moti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ere the people who did volunteer think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the point of this little experi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ing your mind for success</a:t>
            </a:r>
            <a:br>
              <a:rPr sz="3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s://www.youtube.com/watch?v=MmfikLimeQ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e gives three reasons for someone not coming up on st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etting up in front of so many people, the unknown: you don’t what she will ask you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stac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being at the back of the theatre, walking in the dark, tables and chairs in your 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have n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ti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you can’t be  bothered to do it, let someone else do it for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were the people who did volunteer think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iosity, How exciting!, no one else will do it (sense of du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point of this little experi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t demonstrates the power of your m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exper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hort paragraph (max 100-120 words) about a time in your life when you had to overcome fear, obstacles or a lack of motiv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ime limit: 14 m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outcome? Were you successful or were the circumstances too much to overco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paragraph to your part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t |grɪt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loose particles of stone or sand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she had a bit of grit in her ey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age and resolve; strength of character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've known few men who could match Maude's gr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t |grɪt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t one's tee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nch one's teeth, especially when faced with something unpleasant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grit your teeth and splash yourself with cold water!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• resolve to do something difficult or unpleasant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Parliament must grit its teeth and take 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key to success?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Grit</a:t>
            </a:r>
            <a:br>
              <a:rPr sz="2900"/>
            </a:b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s://www.youtube.com/watch?v=H14bBuluwB8&amp;list=PLueYty8QCOFZameS4hs6o9WjgAL6GJu8B&amp;index=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1.5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as the question she was asking in her research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ere some of the situations in which she asked this questio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her definition of grit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did she learn at the Chicago public schools?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es talent make you gritty? Why or Why not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growth mindse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y teach kids about the brai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ey to success?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3996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1.5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was the question she was asking in her research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Who is successful here and why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were some of the situations in which she asked this question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West Point Military Academy, national spelling bee, rookie teachers in tough neighborhoods, private compan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her definition of grit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passion and perseverance, stamina, sticking with your future for your teacher, working hard, life is a marathon not a spri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did she learn at the Chicago public schools? </a:t>
            </a:r>
            <a:r>
              <a:rPr b="0" lang="en-US" sz="1500" spc="-1" strike="noStrike">
                <a:solidFill>
                  <a:srgbClr val="0000ff"/>
                </a:solidFill>
                <a:latin typeface="Calibri"/>
              </a:rPr>
              <a:t>Grittier kids did not drop out regardless of family income, achievement test scores, sense of safety, IQ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most shocking about grit? </a:t>
            </a:r>
            <a:r>
              <a:rPr b="0" lang="en-US" sz="1500" spc="-1" strike="noStrike">
                <a:solidFill>
                  <a:srgbClr val="0000ff"/>
                </a:solidFill>
                <a:latin typeface="Calibri"/>
              </a:rPr>
              <a:t>We know very little about i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es talent make you gritty? Why or Why not? 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Grit is unrelated or inversely related to talent; talented individuals often do not follow through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growth mindset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The belief that the ability to learn is not fixed; it can change with effort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teach kids about the brain? </a:t>
            </a:r>
            <a:r>
              <a:rPr b="0" i="1" lang="en-US" sz="1500" spc="-1" strike="noStrike">
                <a:solidFill>
                  <a:srgbClr val="0000ff"/>
                </a:solidFill>
                <a:latin typeface="Calibri"/>
              </a:rPr>
              <a:t>They are more likely to persevere when they fail. Failure is not a permanent conditio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20:06:32Z</dcterms:created>
  <dc:creator>Paul Filippetto</dc:creator>
  <dc:description/>
  <dc:language>en-US</dc:language>
  <cp:lastModifiedBy>Paul Filippetto</cp:lastModifiedBy>
  <dcterms:modified xsi:type="dcterms:W3CDTF">2015-02-23T10:00:53Z</dcterms:modified>
  <cp:revision>25</cp:revision>
  <dc:subject/>
  <dc:title>success and motivation</dc:title>
</cp:coreProperties>
</file>